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222-27BF-4BD0-9FFC-B311DF28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5E7-0F25-4F05-B152-A584A95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44D-BE0F-4586-8CAB-467E27E8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19E-72C8-448B-BEEF-180748C6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A0-9927-4437-B24A-761A86BF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A93-41B5-4B12-B8C9-98E22FF1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14C-1FF6-4C3C-B70A-08D4A22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200-2A67-41BC-9D1D-4C2EE358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AA2-11E6-4F93-B2C8-7C176AF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E6F-B9D9-4C36-879A-78E0D7B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6FE-1D5B-4954-8221-168CB49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029-49D9-42D8-BDF5-AE28AC2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3C0-6C3F-4DF2-AE78-5D0FD6C35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76212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hat landed in a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ree"/>
          <p:cNvSpPr/>
          <p:nvPr/>
        </p:nvSpPr>
        <p:spPr>
          <a:xfrm>
            <a:off x="2209680" y="1295280"/>
            <a:ext cx="4410360" cy="3114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-76212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climbed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88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his hat from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ree"/>
          <p:cNvSpPr/>
          <p:nvPr/>
        </p:nvSpPr>
        <p:spPr>
          <a:xfrm>
            <a:off x="2666880" y="914400"/>
            <a:ext cx="4191120" cy="37148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1351080" cy="15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76212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limbed down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1371600" cy="1604880"/>
          </a:xfrm>
          <a:prstGeom prst="rect">
            <a:avLst/>
          </a:prstGeom>
          <a:ln w="0">
            <a:noFill/>
          </a:ln>
        </p:spPr>
      </p:pic>
      <p:sp>
        <p:nvSpPr>
          <p:cNvPr id="97" name="Tree"/>
          <p:cNvSpPr/>
          <p:nvPr/>
        </p:nvSpPr>
        <p:spPr>
          <a:xfrm>
            <a:off x="2590920" y="762120"/>
            <a:ext cx="3809880" cy="2876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5335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tir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he decided to take a nap under the 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ree"/>
          <p:cNvSpPr/>
          <p:nvPr/>
        </p:nvSpPr>
        <p:spPr>
          <a:xfrm>
            <a:off x="1523880" y="-152280"/>
            <a:ext cx="3505320" cy="3647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371600" cy="1604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60948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awoke he was very hu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09" name="Cloud Callout 3"/>
          <p:cNvSpPr/>
          <p:nvPr/>
        </p:nvSpPr>
        <p:spPr>
          <a:xfrm rot="2740200">
            <a:off x="5000040" y="628560"/>
            <a:ext cx="3200400" cy="190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 rot="2890800">
            <a:off x="6011640" y="1001880"/>
            <a:ext cx="1276200" cy="95868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-60948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I am hung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14" name="Oval Callout 4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-609480" y="1371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lked back to his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284796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jwertheimer\Local Settings\Temporary Internet Files\Content.IE5\0GPPNENF\MPj04385130000[1].jpg"/>
          <p:cNvPicPr/>
          <p:nvPr/>
        </p:nvPicPr>
        <p:blipFill>
          <a:blip r:embed="rId2"/>
          <a:stretch/>
        </p:blipFill>
        <p:spPr>
          <a:xfrm>
            <a:off x="914400" y="457200"/>
            <a:ext cx="4357800" cy="4017960"/>
          </a:xfrm>
          <a:prstGeom prst="rect">
            <a:avLst/>
          </a:prstGeom>
          <a:ln w="0">
            <a:noFill/>
          </a:ln>
        </p:spPr>
      </p:pic>
      <p:pic>
        <p:nvPicPr>
          <p:cNvPr id="119" name="Recorded Sound" descr=""/>
          <p:cNvPicPr/>
          <p:nvPr/>
        </p:nvPicPr>
        <p:blipFill>
          <a:blip r:embed="rId3"/>
          <a:stretch/>
        </p:blipFill>
        <p:spPr>
          <a:xfrm>
            <a:off x="-99072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mom was waiting for him with som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jwertheimer\Local Settings\Temporary Internet Files\Content.IE5\0GPPNENF\MCj04119060000[1].wmf"/>
          <p:cNvPicPr/>
          <p:nvPr/>
        </p:nvPicPr>
        <p:blipFill>
          <a:blip r:embed="rId1"/>
          <a:stretch/>
        </p:blipFill>
        <p:spPr>
          <a:xfrm>
            <a:off x="3352680" y="99072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-76212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me is Gr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said “Thank yo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3"/>
          <p:cNvSpPr/>
          <p:nvPr/>
        </p:nvSpPr>
        <p:spPr>
          <a:xfrm flipH="1" rot="19798800">
            <a:off x="2923560" y="1258920"/>
            <a:ext cx="2108160" cy="1591920"/>
          </a:xfrm>
          <a:prstGeom prst="wedgeEllipseCallout">
            <a:avLst>
              <a:gd name="adj1" fmla="val -37379"/>
              <a:gd name="adj2" fmla="val 957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-4572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ory is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9" name="Oval Callout 3"/>
          <p:cNvSpPr/>
          <p:nvPr/>
        </p:nvSpPr>
        <p:spPr>
          <a:xfrm flipH="1" rot="19798800">
            <a:off x="2184840" y="1103400"/>
            <a:ext cx="1790640" cy="15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19520" y="1828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ves his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-60948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goes anywhere without his red 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-9144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ay his hat blew off his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28576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 flipV="1">
            <a:off x="2438280" y="2208960"/>
            <a:ext cx="2439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6"/>
          <p:cNvCxnSpPr/>
          <p:nvPr/>
        </p:nvCxnSpPr>
        <p:spPr>
          <a:xfrm flipV="1">
            <a:off x="2819520" y="2971440"/>
            <a:ext cx="2134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 flipV="1">
            <a:off x="3505320" y="3580560"/>
            <a:ext cx="2134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-76212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after his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-76212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hased the hat for a lo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2847960" cy="33339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5"/>
          <p:cNvCxnSpPr/>
          <p:nvPr/>
        </p:nvCxnSpPr>
        <p:spPr>
          <a:xfrm flipH="1" flipV="1">
            <a:off x="8000280" y="129456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 flipV="1">
            <a:off x="7923960" y="213336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 flipH="1" flipV="1">
            <a:off x="7924320" y="3199680"/>
            <a:ext cx="6105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8" name="Recorded Sound" descr=""/>
          <p:cNvPicPr/>
          <p:nvPr/>
        </p:nvPicPr>
        <p:blipFill>
          <a:blip r:embed="rId3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got very 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84796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-1143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24:02Z</dcterms:created>
  <dc:creator>itsuser</dc:creator>
  <dc:description/>
  <dc:language>en-US</dc:language>
  <cp:lastModifiedBy>itsuser</cp:lastModifiedBy>
  <dcterms:modified xsi:type="dcterms:W3CDTF">2009-04-14T16:08:45Z</dcterms:modified>
  <cp:revision>12</cp:revision>
  <dc:subject/>
  <dc:title>Slide 1</dc:title>
</cp:coreProperties>
</file>